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CD8-6837-4D0B-950D-54A69341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8A2D-72AB-40CF-95A7-19A42313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88E-9739-496D-A4B2-81109740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EDE-4947-424F-86CE-0D021DAE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35E-E21D-4C2F-8310-4891E5EA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0FC-FBDA-4FA2-ACFA-E6BAA0D5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96A-82D3-4F55-AEA0-660D1852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EF2-8CD9-4B32-A4BC-57B8D3A2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AC0-E92F-4E2D-A075-DDA5307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BFF-8FA3-47C5-8E12-66B8FFB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7C0-5564-478C-9F1A-84FA64DF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CA0-7BEC-4AC5-AB4F-13873FC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4D5-C2E0-4595-8927-9B60152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070-293D-4E73-B79D-C1D8A4E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B69-C3AE-4AAA-8E43-03D0E12FC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152280" y="2286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7"/>
          <p:cNvSpPr/>
          <p:nvPr/>
        </p:nvSpPr>
        <p:spPr>
          <a:xfrm>
            <a:off x="0" y="2666880"/>
            <a:ext cx="1752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Mis amigos y yo somos felices juntos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352680"/>
            <a:ext cx="568080" cy="82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6095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!De nada, mi alta y divertida amiga. Podemos cantar y bailar y correr y escribir y comer el helado. TIenes para traer su herma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5715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gracias. Sí, quiero y puedo ir a tú casa, Gracias mi simpática, linda y dulce amiga. ¡Hasta lueg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eren venir a mi casa a las  7 de trie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6095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 voy a traer a mi hermana.Esta va a ser divertido. Estamos felices de algunos . Tener la comida lista.!Hasta la vi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5715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chelle ¿como estatas¿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5" descr="Photo on 2011-10-21 at 13.39 #2.jpg"/>
          <p:cNvPicPr/>
          <p:nvPr/>
        </p:nvPicPr>
        <p:blipFill>
          <a:blip r:embed="rId12"/>
          <a:stretch/>
        </p:blipFill>
        <p:spPr>
          <a:xfrm>
            <a:off x="1962000" y="4492800"/>
            <a:ext cx="7207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cp:lastPrinted>2012-12-06T18:31:48Z</cp:lastPrinted>
  <dcterms:modified xsi:type="dcterms:W3CDTF">2012-12-06T18:32:08Z</dcterms:modified>
  <cp:revision>113</cp:revision>
  <dc:subject/>
  <dc:title>Profile</dc:title>
</cp:coreProperties>
</file>